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A24-1515-4D24-B758-3C6ABBF8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40E-5053-4A47-8721-9320792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E0B-4286-473C-8CF2-E621F68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069-ED91-485F-B6A5-F3F67601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274-7482-4BA8-A8D4-40D78BF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5DF-46CC-4F7C-8313-F67B33E4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F53-287F-46E2-9CEF-4C69A107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EFC-7B91-4EC9-A1DC-7B62E57F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020-37FA-47DF-9C47-ACF259F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405-8839-4399-903E-F55FA44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B79-2015-4C60-8001-9CED01C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144-D9A3-4372-846E-23B7D87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1AB-3BF7-4F03-90C9-AAAC17FF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1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6 de en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to learn body and sports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ke sure you conjugate it! Don’t leave it the s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6-01-26T19:08:18Z</dcterms:modified>
  <cp:revision>66</cp:revision>
  <dc:subject/>
  <dc:title>Me llamo _________        Clase 7 IM La fecha es el 4 de noviembre del 2010</dc:title>
</cp:coreProperties>
</file>